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267080" y="0"/>
            <a:ext cx="327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837720"/>
            <a:ext cx="52815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609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10134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67080" y="10134360"/>
            <a:ext cx="32752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A19ED-D248-4382-86F9-2ECDA75CC3F7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-25920"/>
            <a:ext cx="8604360" cy="87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9920" indent="-26568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01680" indent="-19944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3080" indent="-19764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04480" indent="-19908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ptická vlákn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2720" y="1561680"/>
            <a:ext cx="847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Semestrální práce z předmětu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X32TSS – Telekomunikační systémy a sítě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3.ročník FEL ČVU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Leoš Junek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Michal Kurdiovský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7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ýhody a nevýhody opt. vlák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0880" y="1439640"/>
            <a:ext cx="428004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munita vůči elmag. polí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elká přenosová šířk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nterferenční imunit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Odolnost proti žíraviná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řenášení i malého množství energi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Explozní imunita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Teplota okolního prostředí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Snazší a lacinější instalace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alé rozměry a hmotn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kvalita přenos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ízká cen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86040" y="1447560"/>
            <a:ext cx="42800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Ne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Absorbce vodík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cena pro malý přenosový výkon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echanické namáháni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evodiv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adiac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71600"/>
            <a:ext cx="4367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cká vlákna nabízí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ysoké rychlosti pře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lké přenosové vzdále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řízniv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en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doucnost  telekomunika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ychlosti přenosu dat porost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ní zcela využit potenciá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Závě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68720" y="1763640"/>
            <a:ext cx="4824720" cy="4048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76360" y="399564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Úvo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640" y="1440000"/>
            <a:ext cx="8477280" cy="29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růhledné tenké vlákno pro přenos světl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sklo, plas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láknová opt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telekomunikace, osvětlení, senzory,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22860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brazová techn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97800" y="2160720"/>
            <a:ext cx="302256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incip funk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2720" y="1355400"/>
            <a:ext cx="8477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am.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br.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fibr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 obklopené obalovou vrstvou (pláštěm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álcový dielektrický vlnovo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00" spc="-1" strike="noStrike">
                <a:solidFill>
                  <a:srgbClr val="e6e6e6"/>
                </a:solidFill>
                <a:latin typeface="Times New Roman"/>
              </a:rPr>
              <a:t>                                      </a:t>
            </a:r>
            <a:endParaRPr b="0" lang="en-US" sz="5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Totální odraz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otal internal reflection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ozhraní jádro-plášť: žádný lom, pouze odraz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ateriálová podmínka: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jádr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plášť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ická podmínka: úhel dopadu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kde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 je 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kritický úhel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úhel měříme od kolmice na rovinu dopad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4000" y="4932360"/>
            <a:ext cx="43923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355760"/>
            <a:ext cx="88200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ý vlnovod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wavegui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řenáší jednu nebo více vln světelných paprsků, tzv. vidů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des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jednovidová a více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edn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single 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no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ulti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zvláště u jednovidových vláken: část energie přenášena pláštěm (</a:t>
            </a:r>
            <a:r>
              <a:rPr b="1" lang="en-GB" sz="1900" spc="-1" strike="noStrike">
                <a:solidFill>
                  <a:srgbClr val="e6e6e6"/>
                </a:solidFill>
                <a:latin typeface="Times New Roman"/>
              </a:rPr>
              <a:t>evanescentní vlna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ednovidové vlákno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9640" y="4140360"/>
            <a:ext cx="3403440" cy="27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 </a:t>
            </a:r>
            <a:r>
              <a:rPr b="1" i="1" lang="en-GB" sz="24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7400" y="1360440"/>
            <a:ext cx="6908760" cy="4040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5579640"/>
            <a:ext cx="79200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jednovidové vlákno –  průměr  8 µm až  10 µm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mnohovidové vlákno – průměr  50 µm, 62,5 µm a víc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ateriá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2720" y="1439640"/>
            <a:ext cx="847728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Běžn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– křemík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pro přenos záření vyšších vlnových délek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(infračervené z.) 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zirkonič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zirco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hlin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alumi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chalkogenit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chalcogenide glasses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dex lomu těchto skel: asi 1,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Rozdíl indexů lomu mezi jádrem a pláštěm: menší než 1%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Plastov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plastic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POF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: polymetylmetakrylát (PMMA), plášť: fluorované polymer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bvykle skoková změna indexu lomu (SI), mnoho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em vyšší útlum: 1 dBm</a:t>
            </a:r>
            <a:r>
              <a:rPr b="0" lang="en-GB" sz="2400" spc="-1" strike="noStrike" baseline="21000">
                <a:solidFill>
                  <a:srgbClr val="e6e6e6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a vyšší =&gt; brání širšímu užit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8608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vláken (obecně)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080" y="1439640"/>
            <a:ext cx="847692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ysokorychlostní přenosy dat na velké vzdálenosti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odmořské kabely, mezinárodní a národní sítě,  metropolitní sítě, průmyslový etherne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ychlý přenos dat s požadavkem na minimální ztrá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řenos digitální informace z DVD/CD/MD rekordérů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bez přenosu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dekorativní i přímé osvětlování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v bazénech, sprchových koutech, saunách nebo v prostředích s nebezpečím výbuch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ovláknové snímače teplo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edicínské využití (odstraňování usazenin v cévách atd.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kabelů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konkrétně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771040" cy="67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  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 algn="ctr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GÉAN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celoevropská akademická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očítačová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sí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10 Gbps (CESNET připojen rychlostí 2,5 Gbps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propojuje více než 3 tisíce evropských instituc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CESNET2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kademická počítačová síť ČR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ychlost 10 Gbp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- technologie DWDM, ostatní okruhy  technologie PO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propojuje Prahu, Brno, Olomouc a Hradec Králové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PASNE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ažská akademická počítačová síť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 Gbps páteřní síť napojena na CESNE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0 km optických ce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. vláken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35520" cy="536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4267080" cy="2863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4267080" cy="236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523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É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7280" y="1523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7280" y="4038480"/>
            <a:ext cx="110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A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g</cp:lastModifiedBy>
  <cp:revision>0</cp:revision>
  <dc:subject/>
  <dc:title>Optická vlákna</dc:title>
</cp:coreProperties>
</file>